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6C00-8181-4CCC-AA82-E627090C53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A07F-1DCE-48EE-A9A5-ADD5DC49CC82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4570-C5A7-43F2-8FF0-C2230578D71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97DB-C604-418C-B16B-D41F891CC4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81C4-F713-4571-AFF2-48F29AC3689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85F0-0692-4E95-8B18-41DA08399C7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42B6-D28C-4A8F-B654-66056560045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486-721F-4F47-B370-46F4E4308F3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E7D-ACD0-4030-A5D1-2D1CB1AE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8A7-5DD4-4459-8ABC-FC9D3B15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01B-17EC-44A8-A8C6-218FE302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B42-C61E-4A71-BA5F-7CE15BE0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6D7-FEC2-4270-8405-465610EC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A52-CCDD-4376-B01F-ED3ACA04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795-F605-42F9-886E-616745F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07A-72AC-4070-9B37-86E7826D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3AE-352C-4548-8150-1D414F11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7E5-711E-4C40-94FB-2DFB4B8D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A82-AEB3-4D76-822B-8CCDFCC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963-3806-40B6-BE03-5B69B608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F95E-55FD-44DE-A04E-C77A51D88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90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2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3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3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4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2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3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0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8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2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4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4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6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50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2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8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1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2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3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1-12-10T06:44:47Z</dcterms:modified>
  <cp:revision>176</cp:revision>
  <dc:subject/>
  <dc:title>Презентация PowerPoint</dc:title>
</cp:coreProperties>
</file>